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A99-CCE2-43A4-9A78-9FF15D5B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D0C-BCBC-4DB4-B343-E9CC2D3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90E-E93F-48FB-A6B7-9B02047E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45A-06E8-4872-8332-57D9B057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9E2-9337-400F-9CC5-41C8424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A7B-B962-4CA4-8802-751752B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2CB-9574-4B81-918D-54067D5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800-5E4C-43C6-B25F-BC9C21D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EEA-A252-47FE-8157-F4D39C7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861-9CC4-4BA0-B430-B3231F62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82C-0994-4A41-B7CA-519BA2D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B5C-26A5-4B24-877D-DC2F03D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D8EC-1FC6-4CDD-9E7E-457A1901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5200" y="-228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2.2 – Energy Flow in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marietta.edu/~biol/biomes/energy_flow.gif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9" descr=""/>
          <p:cNvPicPr/>
          <p:nvPr/>
        </p:nvPicPr>
        <p:blipFill>
          <a:blip r:embed="rId1"/>
          <a:stretch/>
        </p:blipFill>
        <p:spPr>
          <a:xfrm>
            <a:off x="304920" y="0"/>
            <a:ext cx="7467480" cy="6483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7696080" y="838080"/>
            <a:ext cx="1219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d5613"/>
                </a:solidFill>
                <a:latin typeface="Calibri"/>
              </a:rPr>
              <a:t>This food web represents a terrestrial ecosystem that could be found in British Columb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tiee.ecoed.net/vol/v3/experiments/soil/img/soil_food_web%5BHR%5D.jpg"/>
          <p:cNvPicPr/>
          <p:nvPr/>
        </p:nvPicPr>
        <p:blipFill>
          <a:blip r:embed="rId1"/>
          <a:stretch/>
        </p:blipFill>
        <p:spPr>
          <a:xfrm>
            <a:off x="990720" y="28440"/>
            <a:ext cx="76197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Food 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pyramids show the changes in available energy from one trophic level to another in a food ch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enters at the first trophic level (producers), where there is a large amount of biomass and therefore much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takes large quantities of organisms in one trophic level to meet the energy needs of the next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88620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304920"/>
            <a:ext cx="82296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level loses large amounts of the energy it gathers through basic processes of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– 90 percent of energy taken in by consumers is used in chemical reactions in the body and is lost as thermal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very little energy left over for growth or increase in bio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8076960" cy="6262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066680" y="63244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Calibri"/>
              </a:rPr>
              <a:t>Ninety percent of this mouse’s food energy is used to maintain its life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science-art.com/gallery/31/31_7112003035.jpg"/>
          <p:cNvPicPr/>
          <p:nvPr/>
        </p:nvPicPr>
        <p:blipFill>
          <a:blip r:embed="rId1"/>
          <a:stretch/>
        </p:blipFill>
        <p:spPr>
          <a:xfrm>
            <a:off x="76320" y="90360"/>
            <a:ext cx="6172200" cy="669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800240" y="76176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trophic levels have much larger populations than upper leve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shows the importance of  maintaining large, biodiverse populations at the lowest levels of the food pyrami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od pyramids are also known as ecological 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logical pyramids may show biomass, population, or energy nu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mount of life an ecosystem can contain is based on the bottom level of the ecological pyramid, where producers capture energy from the Su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level in the energy pyramid = a loss of 90 percent of total energy avail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is the total mass of all living things in a giv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can also refer to the mass of a particular type of matter, such as organic materials used to produce bio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is generally measured in 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n organism’s niche, the organism interacts with the ecosystem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taining food from the eco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ing energy to the eco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ow energy flows in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228600" y="12189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s are called producers because they produce  carbohydrates from carbon dioxide, water, and the Sun’s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get their energy by feeding on producers or other consu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mposition is the breakdown of wastes and dead organis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organisms called decomposers through the proces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egrad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media-2.web.britannica.com/eb-media/47/6547-004-81B9888F.gif"/>
          <p:cNvPicPr/>
          <p:nvPr/>
        </p:nvPicPr>
        <p:blipFill>
          <a:blip r:embed="rId1"/>
          <a:stretch/>
        </p:blipFill>
        <p:spPr>
          <a:xfrm>
            <a:off x="4457880" y="1219320"/>
            <a:ext cx="4457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 Food Ch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05740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different methods to represent energy moving through eco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w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343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world-builders.org/lessons/less/biomes/conifers/conif-for/tempfchain.gif"/>
          <p:cNvPicPr/>
          <p:nvPr/>
        </p:nvPicPr>
        <p:blipFill>
          <a:blip r:embed="rId1"/>
          <a:stretch/>
        </p:blipFill>
        <p:spPr>
          <a:xfrm>
            <a:off x="1676520" y="0"/>
            <a:ext cx="60958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ood Chains and Food We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47920"/>
            <a:ext cx="54100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od chains show the flow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ergy in an ecosys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tep in a food chain is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ophic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rs = 1st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mary consumers = 2nd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ary consumers = 3rd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tiary consumers = 4th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5398920" y="2209680"/>
            <a:ext cx="3745080" cy="3760560"/>
            <a:chOff x="5398920" y="2209680"/>
            <a:chExt cx="3745080" cy="3760560"/>
          </a:xfrm>
        </p:grpSpPr>
        <p:pic>
          <p:nvPicPr>
            <p:cNvPr id="55" name="Picture 7" descr=""/>
            <p:cNvPicPr/>
            <p:nvPr/>
          </p:nvPicPr>
          <p:blipFill>
            <a:blip r:embed="rId1"/>
            <a:stretch/>
          </p:blipFill>
          <p:spPr>
            <a:xfrm>
              <a:off x="5398920" y="253188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5553000" y="222876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Calibri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29160" y="220968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Food Ch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23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s in a food chain can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– consumers that obtain energy and nutrients from dead organisms and waste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include earthworms, bacteria and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feed at every troph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have their own, separate food chai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re very numer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hifzaila.files.wordpress.com/2008/08/earthworms.jpg"/>
          <p:cNvPicPr/>
          <p:nvPr/>
        </p:nvPicPr>
        <p:blipFill>
          <a:blip r:embed="rId1"/>
          <a:stretch/>
        </p:blipFill>
        <p:spPr>
          <a:xfrm>
            <a:off x="228600" y="4572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productinspiration.com/wp-content/uploads/2008/04/bacteria5.jpg1f2cfe32-b8c8-4f65-9e77-560f98ca8c12larg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ages.wildmadagascar.org/pictures/masoala/fungi0012.jpg"/>
          <p:cNvPicPr/>
          <p:nvPr/>
        </p:nvPicPr>
        <p:blipFill>
          <a:blip r:embed="rId3"/>
          <a:stretch/>
        </p:blipFill>
        <p:spPr>
          <a:xfrm>
            <a:off x="6172200" y="4495680"/>
            <a:ext cx="25146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Herbivores – primary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bivores eat plants (producers)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arnivores – secondary or tertiary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consumers eat non-producers, su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herbiv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tiary consumers eat secondary consu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10640" indent="-338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called top consumers or top carniv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Omnivores – consumers that eat both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include humans and b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canadiangeographic.ca/atlas/Images/Glossary/Herbivore.jpg"/>
          <p:cNvPicPr/>
          <p:nvPr/>
        </p:nvPicPr>
        <p:blipFill>
          <a:blip r:embed="rId1"/>
          <a:stretch/>
        </p:blipFill>
        <p:spPr>
          <a:xfrm>
            <a:off x="152280" y="4971960"/>
            <a:ext cx="2362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jamsbphotos.co.uk/USERIMAGES/Carnivore(1).jpg"/>
          <p:cNvPicPr/>
          <p:nvPr/>
        </p:nvPicPr>
        <p:blipFill>
          <a:blip r:embed="rId2"/>
          <a:stretch/>
        </p:blipFill>
        <p:spPr>
          <a:xfrm>
            <a:off x="2971800" y="487692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ontariobearhunting.ca/sscimages/animals/bear/BlackBear1_1.jpg"/>
          <p:cNvPicPr/>
          <p:nvPr/>
        </p:nvPicPr>
        <p:blipFill>
          <a:blip r:embed="rId3"/>
          <a:stretch/>
        </p:blipFill>
        <p:spPr>
          <a:xfrm>
            <a:off x="5867280" y="4800600"/>
            <a:ext cx="28321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Food W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523520"/>
            <a:ext cx="8610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are part of many food ch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od webs represent interconnected food chai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od webs are models of the feeding relationships in an ecosys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rows in a food web represent the flow of energy and nutri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llowing the arrows leads to the top carnivore(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05:44:03Z</dcterms:created>
  <dc:creator>SD23-User</dc:creator>
  <dc:description/>
  <dc:language>en-US</dc:language>
  <cp:lastModifiedBy>Kidd</cp:lastModifiedBy>
  <dcterms:modified xsi:type="dcterms:W3CDTF">2012-09-18T05:26:03Z</dcterms:modified>
  <cp:revision>4</cp:revision>
  <dc:subject/>
  <dc:title>2.1 – Energy Flow in Ecosystems</dc:title>
</cp:coreProperties>
</file>